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D7AFF-1E69-4005-9656-C7CA82AA3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9F5E-B242-4C50-92AE-50FA84A0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2C71A-4BCF-4814-A82D-F39C2BA94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BA355-7EEC-489B-8393-5C07EEC72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F8C4-345B-4AD1-AE6F-4F5EC15A7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2E476-C5BA-40A8-A14E-104E5F9B4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B78A-41B4-4C5D-AFC0-75FAEF18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1BAA-E255-48B8-B5C6-05DA75E96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8AF2-C7CC-49C4-A6A9-9016B7C5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1B53C-E7BB-4F85-9686-A6D70CC9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08ABE-BD8E-4BCF-A636-C6771172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D50E-4550-486E-B097-6C6863D9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7C2E-FC4C-4D37-B3D4-EB8784805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ine assessment of thyroid gland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69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9</a:t>
            </a:r>
            <a:endParaRPr b="0" lang="en-US" sz="3200" spc="-1" strike="noStrike">
              <a:solidFill>
                <a:srgbClr val="000000"/>
              </a:solidFill>
              <a:latin typeface="Calibri"/>
            </a:endParaRPr>
          </a:p>
        </p:txBody>
      </p:sp>
      <p:sp>
        <p:nvSpPr>
          <p:cNvPr id="60" name=""/>
          <p:cNvSpPr txBox="1"/>
          <p:nvPr/>
        </p:nvSpPr>
        <p:spPr>
          <a:xfrm>
            <a:off x="456840" y="1143000"/>
            <a:ext cx="8381880" cy="556272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3-year-old woman with chronic autoimmune thyroiditis. She was diagnosed with hypothyroidism with goiter at a local medical clinic and treated intermittently with levothyroxine.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examination of the neck revealed a diffusely enlarged and non-tender thyroid glan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hyroid US demonstrated a diffusely enlarged thyroid gland with a 0.3 × 0.4 cm hypoechoic nodule in the right thyroi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ient gave birth to her first child. About one year before delivery, the results of a in thyroid function tests (TFT) were within normal limits with an increased titer of thyroid autoantibod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after delivery, the patient complained of feeling unwell with palpitations, heat intolerance and irritability. Laboratory examination showed that T3 was 331.6 pg/mL, (normal range: 65 - 181 pg/mL), thyroid-stimulating hormone (TSH) was 0.009 µIU/L (normal range: 0.35 - 5.50 µIU/L), free thyroxine (FT4) was 3.76 ng/dL (normal range: 0.89 - 1.76 ng/dL), antithyroglobulin antibodies was 39.0 U/mL (negative &lt; 60 U/mL), antimicrosomal antibodies were 167.4 U/mL (negative &lt; 60 U/mL).</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scintigraphy showed nonvisualization of both thyroid lobes, and 24-hour radioactive iodine uptake was 0.2% (Fig. 1), which suggeste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ial diagnosis list?</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later, her TSH was 61.764 µIU/L and she was started on levothyroxine. Five month later, her TSH level returned to a normal range and levothyroxine was stoppe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10</a:t>
            </a:r>
            <a:endParaRPr b="0" lang="en-US" sz="3200" spc="-1" strike="noStrike">
              <a:solidFill>
                <a:srgbClr val="000000"/>
              </a:solidFill>
              <a:latin typeface="Calibri"/>
            </a:endParaRPr>
          </a:p>
        </p:txBody>
      </p:sp>
      <p:sp>
        <p:nvSpPr>
          <p:cNvPr id="62"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25 year-old female was referred to endocrinology outpatients from her general practitioner (GP) in view of abnormal thyroid function tests (TFTs). She gave a 2 week history of increasing lethargy limiting her daily activities, loose stools and palpitations. She denied changes in appetite or weight and no neck pain or swelling. No recent history of illness. She has no past medical history and was not on any regular medication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gave birth to her first child 6 weeks ago.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is a non-smok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physical examination, her blood pressure was 125/65mmHg and heart rate of 85 beats per minute, regular. Neck examination revealed a smooth non-tender goiter with no cervical lymphadenopath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showed suppressed thyroid stimulating hormone (TSH) at a level of 0.016µIU/mL (reference range 0.3-3) with elevated free thyroxine (T4) and triiodothyronine (T3) at a level of 42.12 pmol/l(11-18) and 11.3 pmol/l(3.5-6.5) respectively. Previous TFTs during her pregnancy were normal. Thyroid antibodies were taken and showed a negative TSH receptor antibody with a positive anti-thyroid peroxidase antibody (80IU/ml, reference range 0.0-50.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scintigraphy scan showed an enlarged smooth thyroid gland with decreased tracer uptak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ial diagnosis li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1</a:t>
            </a:r>
            <a:endParaRPr b="0" lang="en-US" sz="3600" spc="-1" strike="noStrike">
              <a:solidFill>
                <a:srgbClr val="000000"/>
              </a:solidFill>
              <a:latin typeface="Calibri"/>
            </a:endParaRPr>
          </a:p>
        </p:txBody>
      </p:sp>
      <p:sp>
        <p:nvSpPr>
          <p:cNvPr id="44" name=""/>
          <p:cNvSpPr txBox="1"/>
          <p:nvPr/>
        </p:nvSpPr>
        <p:spPr>
          <a:xfrm>
            <a:off x="457200" y="1447560"/>
            <a:ext cx="8229600" cy="46782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linical History</a:t>
            </a:r>
            <a:br>
              <a:rPr sz="2500"/>
            </a:br>
            <a:r>
              <a:rPr b="0" lang="en-US" sz="2500" spc="-1" strike="noStrike">
                <a:solidFill>
                  <a:srgbClr val="000000"/>
                </a:solidFill>
                <a:latin typeface="Calibri"/>
              </a:rPr>
              <a:t>A previously well 55 year old male complaining of weight loss, marked lethargy and intermittent palpitations and tremor. The patient was clinically with tachycardia, sweating palms and mild agitation. There was no neck tenderness, goiter or exophthalmo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rum TSH was suppressed with elevated serum T4.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thyroid scan was performed.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s:</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ain indication for thyroid scan in this patient?</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st radiopharmaceuticals for thyroid sca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2</a:t>
            </a:r>
            <a:endParaRPr b="0" lang="en-US" sz="3600" spc="-1" strike="noStrike">
              <a:solidFill>
                <a:srgbClr val="000000"/>
              </a:solidFill>
              <a:latin typeface="Calibri"/>
            </a:endParaRPr>
          </a:p>
        </p:txBody>
      </p:sp>
      <p:sp>
        <p:nvSpPr>
          <p:cNvPr id="46" name=""/>
          <p:cNvSpPr txBox="1"/>
          <p:nvPr/>
        </p:nvSpPr>
        <p:spPr>
          <a:xfrm>
            <a:off x="457200" y="792000"/>
            <a:ext cx="8229600" cy="5685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This is a 16-year old white female patient who over the last year has been noted by her family to have increasingly difficult behavior with poor impulse control, worsening relationships with family members, and temper tantrums. Psychiatric evaluation performed one month prior to this study suggested a bipolar disorder. Two weeks prior to study, lithium carbonate treatment was instituted. Subsequently, the patient brought a thyroid nodule to the attention of the psychiatris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done at the time of study demonstrated total serum thyroxine of 9.8 (4.5-12.5 ug/dl), a T3 resin uptake of 34 (22-35%), and a serum TSH of less than 0.1 (0.4-5.5 uIU/mL). Physical examination demonstrated a 4x2 cm oblong smooth nodule in the left lobe of the thyroid gl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Tc-99m pertechnetate i.v.</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Thyroid scintigraphy with Tc- 99m pertechnetate demonstrates intense uptake of the radiopharmaceutical corresponding to the palpable nodule in the left lobe of the thyroid. There is also suppression of uptake in the remainder of the left lobe as well as the entire right lob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ion: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reason for suppression of radiopharmaceutical uptake in the remainder of the left lobe as well as the entire right lob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3</a:t>
            </a:r>
            <a:endParaRPr b="0" lang="en-US" sz="3600" spc="-1" strike="noStrike">
              <a:solidFill>
                <a:srgbClr val="000000"/>
              </a:solidFill>
              <a:latin typeface="Calibri"/>
            </a:endParaRPr>
          </a:p>
        </p:txBody>
      </p:sp>
      <p:sp>
        <p:nvSpPr>
          <p:cNvPr id="48" name=""/>
          <p:cNvSpPr txBox="1"/>
          <p:nvPr/>
        </p:nvSpPr>
        <p:spPr>
          <a:xfrm>
            <a:off x="457200" y="1066320"/>
            <a:ext cx="8229600" cy="5334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a:t>
            </a:r>
            <a:r>
              <a:rPr b="0" lang="en-US" sz="2200" spc="-1" strike="noStrike">
                <a:solidFill>
                  <a:srgbClr val="000000"/>
                </a:solidFill>
                <a:latin typeface="Calibri"/>
              </a:rPr>
              <a:t> 51 year old female,  was well until one month ago when she developed fatigue, weight loss, decreased appetite, fevers and neck pain with swallowing. The patient has no eye sympto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physical examination, the patient has an increased heart rate, warm skin, and fine hair. The thyroid is enlarged, painful. The patient's free serum T4 was 3.4 ng/dl (normal range 0.8-1.8 ng/dl) and the serum TSH was less than 0.01 uU/ml (normal range 0.4-5.5 uU/ml).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radiopharmaceutical would you use?</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uld you do additional laboratory analysis? Pleae specify which analyzes you would us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4</a:t>
            </a:r>
            <a:endParaRPr b="0" lang="en-US" sz="3600" spc="-1" strike="noStrike">
              <a:solidFill>
                <a:srgbClr val="000000"/>
              </a:solidFill>
              <a:latin typeface="Calibri"/>
            </a:endParaRPr>
          </a:p>
        </p:txBody>
      </p:sp>
      <p:sp>
        <p:nvSpPr>
          <p:cNvPr id="50"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ull history: </a:t>
            </a:r>
            <a:r>
              <a:rPr b="0" lang="en-US" sz="2700" spc="-1" strike="noStrike">
                <a:solidFill>
                  <a:srgbClr val="000000"/>
                </a:solidFill>
                <a:latin typeface="Calibri"/>
              </a:rPr>
              <a:t>35 year-old woman with symptoms of hyperthyroidism. The thyroid is moderately enlarged and there is asymmetry of the thyroid on palpation with the left lobe markedly enlarg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adiopharmaceutical: </a:t>
            </a:r>
            <a:r>
              <a:rPr b="0" lang="en-US" sz="2700" spc="-1" strike="noStrike">
                <a:solidFill>
                  <a:srgbClr val="000000"/>
                </a:solidFill>
                <a:latin typeface="Calibri"/>
              </a:rPr>
              <a:t>Thyroid scintigraphy, 10 mCi Tc-99m pertechnetate, i.v.</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dings: </a:t>
            </a:r>
            <a:r>
              <a:rPr b="0" lang="en-US" sz="2700" spc="-1" strike="noStrike">
                <a:solidFill>
                  <a:srgbClr val="000000"/>
                </a:solidFill>
                <a:latin typeface="Calibri"/>
              </a:rPr>
              <a:t>Thyroid scintigraphy: Markedly increased uptake in the entire left thyroid lobe. Small right lob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es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fferential Diagnosis Li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ain the treatment for solitary hyperfunctioning nodul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5</a:t>
            </a:r>
            <a:endParaRPr b="0" lang="en-US" sz="3200" spc="-1" strike="noStrike">
              <a:solidFill>
                <a:srgbClr val="000000"/>
              </a:solidFill>
              <a:latin typeface="Calibri"/>
            </a:endParaRPr>
          </a:p>
        </p:txBody>
      </p:sp>
      <p:sp>
        <p:nvSpPr>
          <p:cNvPr id="52" name=""/>
          <p:cNvSpPr txBox="1"/>
          <p:nvPr/>
        </p:nvSpPr>
        <p:spPr>
          <a:xfrm>
            <a:off x="457200" y="1219320"/>
            <a:ext cx="8229600" cy="4906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31-year-old man with papillary thyroid carcinoma, status post total thyroidectomy and recent treatment with 100 mCi I-131. p.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ole body scan was obtained 120 hours after the therapeutic dose </a:t>
            </a:r>
            <a:r>
              <a:rPr b="1" lang="en-US" sz="2200" spc="-1" strike="noStrike">
                <a:solidFill>
                  <a:srgbClr val="000000"/>
                </a:solidFill>
                <a:latin typeface="Calibri"/>
              </a:rPr>
              <a:t>: </a:t>
            </a:r>
            <a:r>
              <a:rPr b="0" lang="en-US" sz="2200" spc="-1" strike="noStrike">
                <a:solidFill>
                  <a:srgbClr val="000000"/>
                </a:solidFill>
                <a:latin typeface="Calibri"/>
              </a:rPr>
              <a:t>There is intense activity of I-131 within the thyroid bed (with "star effect" because of collimator septal penetration). There also is I-131 uptake in adjacent cervical lymph node and in multiple bilateral pulmonary metastas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is expected I-131 activity in the salivary glands, stomach, colon, and urinary bladd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preparation for radioiodine therapy?</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verse effects considering pulmonary uptak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6</a:t>
            </a:r>
            <a:endParaRPr b="0" lang="en-US" sz="3600" spc="-1" strike="noStrike">
              <a:solidFill>
                <a:srgbClr val="000000"/>
              </a:solidFill>
              <a:latin typeface="Calibri"/>
            </a:endParaRPr>
          </a:p>
        </p:txBody>
      </p:sp>
      <p:sp>
        <p:nvSpPr>
          <p:cNvPr id="54" name=""/>
          <p:cNvSpPr txBox="1"/>
          <p:nvPr/>
        </p:nvSpPr>
        <p:spPr>
          <a:xfrm>
            <a:off x="457200" y="1219320"/>
            <a:ext cx="82296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ull history: </a:t>
            </a:r>
            <a:r>
              <a:rPr b="0" lang="en-US" sz="2000" spc="-1" strike="noStrike">
                <a:solidFill>
                  <a:srgbClr val="000000"/>
                </a:solidFill>
                <a:latin typeface="Calibri"/>
              </a:rPr>
              <a:t>This 6 years old child had a total thyroidectomy 6 weeks prior to whole body radioiodine imaging for papillary carcinoma of the thyroid. The patient has no prior exposure to head and neck radiation. This examination was performed after a 30 mCi therapy do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diopharmaceutical: </a:t>
            </a:r>
            <a:r>
              <a:rPr b="0" lang="en-US" sz="2000" spc="-1" strike="noStrike">
                <a:solidFill>
                  <a:srgbClr val="000000"/>
                </a:solidFill>
                <a:latin typeface="Calibri"/>
              </a:rPr>
              <a:t>30 mCi I-131 (sodium iodide) p.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dings: </a:t>
            </a:r>
            <a:r>
              <a:rPr b="0" lang="en-US" sz="2000" spc="-1" strike="noStrike">
                <a:solidFill>
                  <a:srgbClr val="000000"/>
                </a:solidFill>
                <a:latin typeface="Calibri"/>
              </a:rPr>
              <a:t>Initial whole body images demonstrate diffuse uptake throughout the lungs as well as uptake within the neck. The absolute amount of the radioiodine within the lung was estimated by counting a known amount of activity during the whole body acquisition. A follow-up examination was performed 20 days later to estimate the biological halflife of the radioiodine. From this data the radiation dose to the lung could be estimated. No correction for attenuation was d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7</a:t>
            </a:r>
            <a:endParaRPr b="0" lang="en-US" sz="3600" spc="-1" strike="noStrike">
              <a:solidFill>
                <a:srgbClr val="000000"/>
              </a:solidFill>
              <a:latin typeface="Calibri"/>
            </a:endParaRPr>
          </a:p>
        </p:txBody>
      </p:sp>
      <p:sp>
        <p:nvSpPr>
          <p:cNvPr id="56"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75 year old female who had a total thyroidectomy, with histology demonstrating a poorly differentiated insular subtype thyroid cancer, with coexistent regions suspicious for medullary canc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subsequently received an ablative dose of Iodine 131, and after a disease-free interval of approximately two years, represented with palpable nodularity in the thyroid bed and enlarged cervical lymph nod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150 mCi therapeutic dose of Iodine 131, 120 hours before the whole body ima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IODINE 131 IMAGES:1. Moderately intense, increased activity in the right thyroid bed, with a small, second focus of increased activity in the inferior left thyroid b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Bilateral, diffusely increased pulmonary activity, with a small, more intense focus of increased uptake peripherally in the right pulmonary b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ildly increased hepatic activ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ST RADIOGRAP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ultiple pulmonary nodules of varying sizes in a predominantly basal distribution, consistent with pulmonary metasta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8</a:t>
            </a:r>
            <a:endParaRPr b="0" lang="en-US" sz="3600" spc="-1" strike="noStrike">
              <a:solidFill>
                <a:srgbClr val="000000"/>
              </a:solidFill>
              <a:latin typeface="Calibri"/>
            </a:endParaRPr>
          </a:p>
        </p:txBody>
      </p:sp>
      <p:sp>
        <p:nvSpPr>
          <p:cNvPr id="58" name=""/>
          <p:cNvSpPr txBox="1"/>
          <p:nvPr/>
        </p:nvSpPr>
        <p:spPr>
          <a:xfrm>
            <a:off x="380880" y="1066680"/>
            <a:ext cx="8229600" cy="5059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18-year old woman with papillary carcinoma of the thyroid status post total thyroidectomy with removal of lymph nodes in the neck and supraclavicular regions. MRI demonstrated multiple pulmonary nodu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diopharmaceutical: </a:t>
            </a:r>
            <a:r>
              <a:rPr b="0" lang="en-US" sz="2200" spc="-1" strike="noStrike">
                <a:solidFill>
                  <a:srgbClr val="000000"/>
                </a:solidFill>
                <a:latin typeface="Calibri"/>
              </a:rPr>
              <a:t>200 mCi I-131 sodium iodide p.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dings: </a:t>
            </a:r>
            <a:r>
              <a:rPr b="0" lang="en-US" sz="2200" spc="-1" strike="noStrike">
                <a:solidFill>
                  <a:srgbClr val="000000"/>
                </a:solidFill>
                <a:latin typeface="Calibri"/>
              </a:rPr>
              <a:t>Anterior and posterior whole body I- 131 images demonstrate multiple areas of increased uptake in the neck, as well as diffuse pulmonary uptak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order to diagnose metastatic thyroid carcinoma, the normal biodistribution of I-131 should be known. Normal biodistribution of I-131 includ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 achieve maximum sensitivity in detecting functioning lesions, follow-up whole-body I-131 imaging is usually performed after the patient has been removed from thyroid supplementation so that the patient has an elevated TSH. How long is period without thyroid suplement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0T20:19:02Z</dcterms:created>
  <dc:creator>Korisnik</dc:creator>
  <dc:description/>
  <dc:language>en-US</dc:language>
  <cp:lastModifiedBy>Vladimir Vukomanovic</cp:lastModifiedBy>
  <dcterms:modified xsi:type="dcterms:W3CDTF">2023-09-14T17:55:49Z</dcterms:modified>
  <cp:revision>19</cp:revision>
  <dc:subject/>
  <dc:title>Nuclear</dc:title>
</cp:coreProperties>
</file>